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6BDB-DD39-4405-A1AD-4ED551D2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5453-7663-4A1B-B998-19657ECB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2538-3DCB-4634-A690-FC497BECB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12E9-E8B9-4B5C-B6D2-3E327162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8895-4719-46A2-9F34-46846B05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6C5F-3F8E-49EA-AB38-B4CD5109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FE1C-DECC-43EA-9AF8-4ED38951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55F6-6DB0-4AFC-8CEC-8BB6E8CA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59E5-FD6B-4756-ABFD-0FEA5167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0A65-6B65-43FC-B4FA-666824A0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490F-A190-4800-8D8A-7A4B1AD7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8FEC-9B3F-4490-9391-B9A87D95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5169-C984-45C4-9CDA-DF8F9BBEE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5/Rosaparks_fingerprints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upload.wikimedia.org/wikipedia/en/5/57/Rosa_Parks_Booking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3/3d/Rosa_Parks_Old_GM_Bus_serial_number_1132_interior_No_2857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eptember_9" TargetMode="External"/><Relationship Id="rId2" Type="http://schemas.openxmlformats.org/officeDocument/2006/relationships/hyperlink" Target="http://en.wikipedia.org/wiki/1996" TargetMode="External"/><Relationship Id="rId3" Type="http://schemas.openxmlformats.org/officeDocument/2006/relationships/hyperlink" Target="http://en.wikipedia.org/wiki/Presidential_Medal_of_Freedom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00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4863"/>
          <a:stretch/>
        </p:blipFill>
        <p:spPr>
          <a:xfrm>
            <a:off x="1403280" y="0"/>
            <a:ext cx="66596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92360" y="549360"/>
            <a:ext cx="60055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osa Louise Mc Cauley Park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4000" y="5084640"/>
            <a:ext cx="8569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"Mother of the modern- 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ivil Right Movement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203640" y="765000"/>
            <a:ext cx="2657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iography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1440000" y="1628640"/>
            <a:ext cx="7704000" cy="49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ORN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ebruary 4,19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uskegee,Alab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ED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ctober 24, 2005( aged 9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troit, Michig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FE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ks became famous for refusing to obey bus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riverJame blake's order that she give up her seat to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ke room for a white passeng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hen Parks refused to give up her seat, a police officer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rrested 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Image:Rosaparks fingerprint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333360"/>
            <a:ext cx="4176720" cy="5400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Image:Rosa Parks Booking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189000"/>
            <a:ext cx="4419720" cy="5705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4520" y="6092280"/>
            <a:ext cx="32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Booking photo of Rosa Park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62160" y="609228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Fingerprint card of Rosa Park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6667560" cy="526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5949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eputy Sheriff D.H. Lackey fingerprints Parks du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her February 22, 1956 indictment for organizing a boyco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5157360"/>
            <a:ext cx="867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 this period, black and white people were segregated in virtually every aspect of daily life in the South, including public transportation. Bus and train companies d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ot provide separate vehicles for the different races but did enforce se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policies that allocated separate sections for blacks and whi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3533760" cy="3571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00720" y="1052640"/>
            <a:ext cx="43192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Image:Rosa Parks Old GM Bus serial number 1132 interior No 285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333360"/>
            <a:ext cx="7620120" cy="5095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5640" y="565956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Interior of The No. 2857 bus which Rosa Parks was riding on.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1760" y="333000"/>
            <a:ext cx="729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On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eptember 9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996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, President Bill Clinton presented Parks with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residential Medal of Freedom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, the highest honor given by the U.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ecutive bran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Image:Rosa Louise McCauley Parks in 1979.jpg"/>
          <p:cNvPicPr/>
          <p:nvPr/>
        </p:nvPicPr>
        <p:blipFill>
          <a:blip r:embed="rId4"/>
          <a:stretch/>
        </p:blipFill>
        <p:spPr>
          <a:xfrm>
            <a:off x="250920" y="1197000"/>
            <a:ext cx="3816360" cy="5445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Image:RosaParks-BillClinton.jpg"/>
          <p:cNvPicPr/>
          <p:nvPr/>
        </p:nvPicPr>
        <p:blipFill>
          <a:blip r:embed="rId5"/>
          <a:stretch/>
        </p:blipFill>
        <p:spPr>
          <a:xfrm>
            <a:off x="4356000" y="1484280"/>
            <a:ext cx="4319640" cy="3438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4140360" y="5229360"/>
            <a:ext cx="1428480" cy="142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649120" y="5659920"/>
            <a:ext cx="325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e Rosa Par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ongressional Gold Med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720" y="4941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osa Parks and U.S. President Bill Clin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08:09:48Z</dcterms:created>
  <dc:creator>Alumno58</dc:creator>
  <dc:description/>
  <dc:language>en-US</dc:language>
  <cp:lastModifiedBy>Alumno58</cp:lastModifiedBy>
  <dcterms:modified xsi:type="dcterms:W3CDTF">2008-05-28T09:04:18Z</dcterms:modified>
  <cp:revision>3</cp:revision>
  <dc:subject/>
  <dc:title>Diapositiva 1</dc:title>
</cp:coreProperties>
</file>